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106-8F84-48B6-B5C9-C63E6054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E12E-8DF6-4A2D-8546-CCB79284A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FF9-954A-4EA7-8FC7-CB798750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E22-CA76-4708-8338-8203A263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301-2F0C-4084-A18D-4B8864C1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C0B-ED25-451A-A8CA-F32BA5A0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4EA-822E-4E82-A1F8-F0AE0522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383-2464-4FF5-AAFD-7B31833E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F68-1BAD-4289-A434-64753A6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BAA-C8A2-4813-B860-0CC1BD79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DC7-50E9-43BE-8F72-82D905F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829-1964-4CC7-A9B2-C4350C27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5D8-EF68-4C82-BB85-3E7A076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4D5-FD8E-4652-B9DF-60E4BC87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5640-6123-4C2C-AD15-4A4FFEB8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Yo soy Simpatica y divertid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5486400"/>
            <a:ext cx="67140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6:54Z</dcterms:modified>
  <cp:revision>103</cp:revision>
  <dc:subject/>
  <dc:title>Profile</dc:title>
</cp:coreProperties>
</file>